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EBC-055A-41D4-A1BF-A2C6BADA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A56-1765-48F9-8827-72CB5224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3E29-F625-4986-9B7E-06872247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F96-01A7-4F5E-89AD-BF73DCBE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70D-0386-40BB-BD3E-6AB689CD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82D-9D2D-42A6-9A28-59529126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E50-97FB-4C3B-B2FA-C5317265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774-37FF-4989-AB82-6B1F1577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A46-CB30-4F53-B382-6F95401C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A75-C84B-4EE4-9078-143FCDF0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EBE-DF05-4274-A058-AEB6511D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289D-B2CC-4587-A17A-A228C284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64CD-EACA-4832-8C22-A48D0AAB5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6NH (601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4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3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ompras en la papele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n la tienda de rop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R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¿ Comprendes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R12 (1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ver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verb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s una palabra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l secre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verb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 español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termina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–AR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–ER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-IR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 tienen que ser una palabra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All verbs in Spanish end in –ar, -er, or –ir and have to be an action w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-AR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-ER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       -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51814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51814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579132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R6-R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5:36:31Z</dcterms:created>
  <dc:creator>Helen Zumaeta</dc:creator>
  <dc:description/>
  <dc:language>en-US</dc:language>
  <cp:lastModifiedBy>Helen Zumaeta</cp:lastModifiedBy>
  <dcterms:modified xsi:type="dcterms:W3CDTF">2012-10-24T19:16:36Z</dcterms:modified>
  <cp:revision>9</cp:revision>
  <dc:subject/>
  <dc:title>Me llamo ________ Clase 6NH La fecha es el 15 de febrero del 2012</dc:title>
</cp:coreProperties>
</file>